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60013" cy="7380288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859E-9B99-4388-87E6-89028A55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2640" y="295200"/>
            <a:ext cx="9236160" cy="123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2640" y="1722240"/>
            <a:ext cx="9236160" cy="232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640" y="4266360"/>
            <a:ext cx="9236160" cy="232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B4F4-3FD7-4186-9D13-413E7F08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2640" y="295200"/>
            <a:ext cx="9236160" cy="123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2640" y="1722240"/>
            <a:ext cx="4507200" cy="232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45560" y="1722240"/>
            <a:ext cx="4507200" cy="232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2640" y="4266360"/>
            <a:ext cx="4507200" cy="232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45560" y="4266360"/>
            <a:ext cx="4507200" cy="232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0919-88AE-44D8-AFCB-2D595583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2640" y="295200"/>
            <a:ext cx="9236160" cy="123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2640" y="1722240"/>
            <a:ext cx="2973960" cy="232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5640" y="1722240"/>
            <a:ext cx="2973960" cy="232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58640" y="1722240"/>
            <a:ext cx="2973960" cy="232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2640" y="4266360"/>
            <a:ext cx="2973960" cy="232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5640" y="4266360"/>
            <a:ext cx="2973960" cy="232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58640" y="4266360"/>
            <a:ext cx="2973960" cy="232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4DD0-0D94-48BB-B65F-BBFA8119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2640" y="295200"/>
            <a:ext cx="9236160" cy="123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2640" y="1722240"/>
            <a:ext cx="923616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A1D2-879B-401F-9EAD-FA7E8FF0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2640" y="295200"/>
            <a:ext cx="9236160" cy="123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2640" y="1722240"/>
            <a:ext cx="9236160" cy="4870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3CCF-75E9-469E-BEC7-A922B288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2640" y="295200"/>
            <a:ext cx="9236160" cy="123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2640" y="1722240"/>
            <a:ext cx="4507200" cy="4870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45560" y="1722240"/>
            <a:ext cx="4507200" cy="4870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59D4-36C7-4309-A911-07390DCE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2640" y="295200"/>
            <a:ext cx="9236160" cy="123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BD1C-5AB4-4E73-BA71-864A35CC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2640" y="295200"/>
            <a:ext cx="9236160" cy="57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0AE-96B4-4E08-AFF8-52657A52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2640" y="295200"/>
            <a:ext cx="9236160" cy="123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2640" y="1722240"/>
            <a:ext cx="4507200" cy="232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45560" y="1722240"/>
            <a:ext cx="4507200" cy="4870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2640" y="4266360"/>
            <a:ext cx="4507200" cy="232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870E-3278-4CC6-B7E8-B40AC1F9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2640" y="295200"/>
            <a:ext cx="9236160" cy="123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2640" y="1722240"/>
            <a:ext cx="4507200" cy="4870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5560" y="1722240"/>
            <a:ext cx="4507200" cy="232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45560" y="4266360"/>
            <a:ext cx="4507200" cy="232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1849-6178-4D82-B71D-754BC942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2640" y="295200"/>
            <a:ext cx="9236160" cy="123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2640" y="1722240"/>
            <a:ext cx="4507200" cy="232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5560" y="1722240"/>
            <a:ext cx="4507200" cy="232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640" y="4266360"/>
            <a:ext cx="9236160" cy="232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190B-8E8B-4ACC-AB43-1020B1ED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2640" y="295200"/>
            <a:ext cx="9236160" cy="123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2640" y="1722240"/>
            <a:ext cx="9236160" cy="4870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2640" y="6721560"/>
            <a:ext cx="2394000" cy="51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6760" y="6721560"/>
            <a:ext cx="3247920" cy="51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54800" y="6721560"/>
            <a:ext cx="2394000" cy="51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17EC-C9A5-40B7-BBDE-54729698D44F}" type="slidenum">
              <a:rPr b="0" lang="de-CH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37"/>
          <p:cNvSpPr/>
          <p:nvPr/>
        </p:nvSpPr>
        <p:spPr>
          <a:xfrm rot="10800000">
            <a:off x="2322000" y="1746360"/>
            <a:ext cx="1800360" cy="18000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"/>
          <p:cNvGrpSpPr/>
          <p:nvPr/>
        </p:nvGrpSpPr>
        <p:grpSpPr>
          <a:xfrm>
            <a:off x="593640" y="0"/>
            <a:ext cx="7010280" cy="7021080"/>
            <a:chOff x="593640" y="0"/>
            <a:chExt cx="7010280" cy="7021080"/>
          </a:xfrm>
        </p:grpSpPr>
        <p:grpSp>
          <p:nvGrpSpPr>
            <p:cNvPr id="43" name="Group 3"/>
            <p:cNvGrpSpPr/>
            <p:nvPr/>
          </p:nvGrpSpPr>
          <p:grpSpPr>
            <a:xfrm>
              <a:off x="604440" y="5260680"/>
              <a:ext cx="6999480" cy="1760400"/>
              <a:chOff x="604440" y="5260680"/>
              <a:chExt cx="6999480" cy="1760400"/>
            </a:xfrm>
          </p:grpSpPr>
          <p:sp>
            <p:nvSpPr>
              <p:cNvPr id="44" name="Rectangle 4"/>
              <p:cNvSpPr/>
              <p:nvPr/>
            </p:nvSpPr>
            <p:spPr>
              <a:xfrm>
                <a:off x="5848200" y="5265360"/>
                <a:ext cx="1755720" cy="1755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4103280" y="5260680"/>
                <a:ext cx="1756080" cy="175572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6"/>
              <p:cNvSpPr/>
              <p:nvPr/>
            </p:nvSpPr>
            <p:spPr>
              <a:xfrm>
                <a:off x="604440" y="5265360"/>
                <a:ext cx="1756080" cy="1755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7"/>
              <p:cNvSpPr/>
              <p:nvPr/>
            </p:nvSpPr>
            <p:spPr>
              <a:xfrm>
                <a:off x="2352240" y="5265360"/>
                <a:ext cx="1756080" cy="1755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8"/>
            <p:cNvGrpSpPr/>
            <p:nvPr/>
          </p:nvGrpSpPr>
          <p:grpSpPr>
            <a:xfrm>
              <a:off x="598320" y="3508200"/>
              <a:ext cx="6998760" cy="1759680"/>
              <a:chOff x="598320" y="3508200"/>
              <a:chExt cx="6998760" cy="1759680"/>
            </a:xfrm>
          </p:grpSpPr>
          <p:sp>
            <p:nvSpPr>
              <p:cNvPr id="49" name="Rectangle 9"/>
              <p:cNvSpPr/>
              <p:nvPr/>
            </p:nvSpPr>
            <p:spPr>
              <a:xfrm>
                <a:off x="5841720" y="3512520"/>
                <a:ext cx="1755360" cy="1755360"/>
              </a:xfrm>
              <a:prstGeom prst="rect">
                <a:avLst/>
              </a:prstGeom>
              <a:solidFill>
                <a:srgbClr val="cc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10"/>
              <p:cNvSpPr/>
              <p:nvPr/>
            </p:nvSpPr>
            <p:spPr>
              <a:xfrm>
                <a:off x="4096800" y="3508200"/>
                <a:ext cx="1755720" cy="175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11"/>
              <p:cNvSpPr/>
              <p:nvPr/>
            </p:nvSpPr>
            <p:spPr>
              <a:xfrm>
                <a:off x="598320" y="3512520"/>
                <a:ext cx="1755720" cy="17553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12"/>
              <p:cNvSpPr/>
              <p:nvPr/>
            </p:nvSpPr>
            <p:spPr>
              <a:xfrm>
                <a:off x="2345760" y="3512520"/>
                <a:ext cx="1755720" cy="175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13"/>
            <p:cNvGrpSpPr/>
            <p:nvPr/>
          </p:nvGrpSpPr>
          <p:grpSpPr>
            <a:xfrm>
              <a:off x="593640" y="0"/>
              <a:ext cx="6998760" cy="1760400"/>
              <a:chOff x="593640" y="0"/>
              <a:chExt cx="6998760" cy="1760400"/>
            </a:xfrm>
          </p:grpSpPr>
          <p:sp>
            <p:nvSpPr>
              <p:cNvPr id="54" name="Rectangle 14"/>
              <p:cNvSpPr/>
              <p:nvPr/>
            </p:nvSpPr>
            <p:spPr>
              <a:xfrm>
                <a:off x="5837040" y="4680"/>
                <a:ext cx="1755360" cy="17557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15"/>
              <p:cNvSpPr/>
              <p:nvPr/>
            </p:nvSpPr>
            <p:spPr>
              <a:xfrm>
                <a:off x="4092120" y="0"/>
                <a:ext cx="1755720" cy="1755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16"/>
              <p:cNvSpPr/>
              <p:nvPr/>
            </p:nvSpPr>
            <p:spPr>
              <a:xfrm>
                <a:off x="593640" y="4680"/>
                <a:ext cx="1755720" cy="17557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17"/>
              <p:cNvSpPr/>
              <p:nvPr/>
            </p:nvSpPr>
            <p:spPr>
              <a:xfrm>
                <a:off x="2341080" y="4680"/>
                <a:ext cx="1755720" cy="1755720"/>
              </a:xfrm>
              <a:prstGeom prst="rect">
                <a:avLst/>
              </a:pr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8"/>
            <p:cNvGrpSpPr/>
            <p:nvPr/>
          </p:nvGrpSpPr>
          <p:grpSpPr>
            <a:xfrm>
              <a:off x="593640" y="1755720"/>
              <a:ext cx="6998760" cy="1759680"/>
              <a:chOff x="593640" y="1755720"/>
              <a:chExt cx="6998760" cy="1759680"/>
            </a:xfrm>
          </p:grpSpPr>
          <p:sp>
            <p:nvSpPr>
              <p:cNvPr id="59" name="Rectangle 19"/>
              <p:cNvSpPr/>
              <p:nvPr/>
            </p:nvSpPr>
            <p:spPr>
              <a:xfrm>
                <a:off x="5837040" y="1760040"/>
                <a:ext cx="1755360" cy="17553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0"/>
              <p:cNvSpPr/>
              <p:nvPr/>
            </p:nvSpPr>
            <p:spPr>
              <a:xfrm>
                <a:off x="4092120" y="1755720"/>
                <a:ext cx="1755720" cy="175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1"/>
              <p:cNvSpPr/>
              <p:nvPr/>
            </p:nvSpPr>
            <p:spPr>
              <a:xfrm>
                <a:off x="593640" y="1760040"/>
                <a:ext cx="1755720" cy="175536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2"/>
              <p:cNvSpPr/>
              <p:nvPr/>
            </p:nvSpPr>
            <p:spPr>
              <a:xfrm>
                <a:off x="2341080" y="1760040"/>
                <a:ext cx="1755720" cy="175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Text Box 23"/>
          <p:cNvSpPr/>
          <p:nvPr/>
        </p:nvSpPr>
        <p:spPr>
          <a:xfrm rot="5400000">
            <a:off x="5248800" y="1148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4"/>
          <p:cNvSpPr/>
          <p:nvPr/>
        </p:nvSpPr>
        <p:spPr>
          <a:xfrm rot="16200000">
            <a:off x="2442600" y="1144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811440" y="1746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6"/>
          <p:cNvSpPr/>
          <p:nvPr/>
        </p:nvSpPr>
        <p:spPr>
          <a:xfrm rot="10800000">
            <a:off x="811800" y="4552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7"/>
          <p:cNvSpPr/>
          <p:nvPr/>
        </p:nvSpPr>
        <p:spPr>
          <a:xfrm rot="5400000">
            <a:off x="5248800" y="61632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8"/>
          <p:cNvSpPr/>
          <p:nvPr/>
        </p:nvSpPr>
        <p:spPr>
          <a:xfrm rot="16200000">
            <a:off x="2442600" y="6235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9"/>
          <p:cNvSpPr/>
          <p:nvPr/>
        </p:nvSpPr>
        <p:spPr>
          <a:xfrm>
            <a:off x="6932880" y="1746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0"/>
          <p:cNvSpPr/>
          <p:nvPr/>
        </p:nvSpPr>
        <p:spPr>
          <a:xfrm rot="10800000">
            <a:off x="6933240" y="4552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4"/>
          <p:cNvSpPr/>
          <p:nvPr/>
        </p:nvSpPr>
        <p:spPr>
          <a:xfrm rot="13514400">
            <a:off x="2852640" y="2006640"/>
            <a:ext cx="1247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Wie gross sollt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Tischgruppe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max. sein?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6"/>
          <p:cNvSpPr/>
          <p:nvPr/>
        </p:nvSpPr>
        <p:spPr>
          <a:xfrm rot="2744400">
            <a:off x="2057760" y="2514600"/>
            <a:ext cx="17272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Wie kann man koop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Lernen und Frontal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Unterrich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Verbinden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8"/>
          <p:cNvSpPr/>
          <p:nvPr/>
        </p:nvSpPr>
        <p:spPr>
          <a:xfrm rot="8091000">
            <a:off x="3863520" y="2063520"/>
            <a:ext cx="1727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Erläutere: Grundstrukt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des koop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Lerne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9"/>
          <p:cNvSpPr/>
          <p:nvPr/>
        </p:nvSpPr>
        <p:spPr>
          <a:xfrm rot="18891000">
            <a:off x="4612320" y="2581920"/>
            <a:ext cx="15141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Warum beginnt koop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Lernen immer m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der Einzel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arbeit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2"/>
          <p:cNvSpPr/>
          <p:nvPr/>
        </p:nvSpPr>
        <p:spPr>
          <a:xfrm rot="13443600">
            <a:off x="4410720" y="3619080"/>
            <a:ext cx="1626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Wie lassen sich sozia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Fähigkeiten im Fach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unterrich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fördern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3"/>
          <p:cNvSpPr/>
          <p:nvPr/>
        </p:nvSpPr>
        <p:spPr>
          <a:xfrm rot="2782800">
            <a:off x="3847680" y="4323240"/>
            <a:ext cx="1747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Koop. Lernen endet nic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nach der Ph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des Vorstelle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Warum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4"/>
          <p:cNvSpPr/>
          <p:nvPr/>
        </p:nvSpPr>
        <p:spPr>
          <a:xfrm rot="18799200">
            <a:off x="2652480" y="4294080"/>
            <a:ext cx="1637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Warum sollten wir bei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koop. Lernen nicht v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einer Metho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sprechen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5"/>
          <p:cNvSpPr/>
          <p:nvPr/>
        </p:nvSpPr>
        <p:spPr>
          <a:xfrm rot="8118000">
            <a:off x="2020320" y="3834720"/>
            <a:ext cx="1657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Welches sind die fün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Gelingensbedingunge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für das koop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Lernen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2:31:11Z</dcterms:created>
  <dc:creator>Verena von Aesch</dc:creator>
  <dc:description/>
  <dc:language>en-US</dc:language>
  <cp:lastModifiedBy>admin</cp:lastModifiedBy>
  <dcterms:modified xsi:type="dcterms:W3CDTF">2013-02-06T19:49:28Z</dcterms:modified>
  <cp:revision>8</cp:revision>
  <dc:subject/>
  <dc:title>Folie 1</dc:title>
</cp:coreProperties>
</file>